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2F1-B4DB-4D99-B750-F1D99F38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72D-83B1-4996-AC0F-FCA6BC66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870-FF17-4AB9-85D9-614C411B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2C59-21A6-4ED9-A68C-82BB91D5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E11-35BA-432C-9C28-E32340A4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62D-B358-4A7D-A524-62819231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5CE-85B5-4DA2-BFE8-C6E95121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1F8-D8BD-48C7-8ABD-EA2250FD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9A4-91E8-4600-9D84-88CAE97E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492-C242-421F-9086-F437BA76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DF93-23D8-468D-8CD5-E29E0EFD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1BF-D7F4-435C-95D9-A6EDBA22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D8F3-1951-40A9-AE54-752878726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4292640"/>
            <a:ext cx="721980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ыполнилнила: Рочева Мария, 231г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835280" y="1341360"/>
            <a:ext cx="5616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90000"/>
                  </a:srgbClr>
                </a:solidFill>
                <a:latin typeface="Arial"/>
              </a:rPr>
              <a:t>Зачем комару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9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42920" y="2708280"/>
            <a:ext cx="734544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>
                    <a:alpha val="90000"/>
                  </a:srgbClr>
                </a:solidFill>
                <a:latin typeface="Arial Narrow"/>
              </a:rPr>
              <a:t>пить кровь?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>
                  <a:alpha val="90000"/>
                </a:srgbClr>
              </a:solidFill>
              <a:latin typeface="Arial Narrow"/>
              <a:ea typeface="Arial Narrow"/>
            </a:endParaRPr>
          </a:p>
        </p:txBody>
      </p:sp>
    </p:spTree>
  </p:cSld>
  <p:transition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Всех ли одинаково кусают комары 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тво давно подметило, что одних людей комары кусают чаще, а других реже. Как это объясни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тягательным образом действует запах тела. Особенно привлекают пот, температура тела, выделение углекислого газа, а у людей — также цвет и поверхность одеж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Всех ли одинаково кусают кома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5338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выше у вас температура тела, тем больше вероятность стать комариным обе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ктр феромонов, выделяемых человеком,широк и среди них выделяются компоненты, притягивающие и отпугивающие ком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ющие вырабатываются в организме всех людей, а вот те, что комаров отпугивают, — только у не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одной из версий, отпугивающие компоненты пахнут для комаров сильнее, чем привлекающие. По другой — люди, которых комары не кусают, просто лишены запахов, привлекающих насеко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2890800" cy="4213440"/>
          </a:xfrm>
          <a:prstGeom prst="rect">
            <a:avLst/>
          </a:prstGeom>
          <a:ln w="0">
            <a:noFill/>
          </a:ln>
        </p:spPr>
      </p:pic>
    </p:spTree>
  </p:cSld>
  <p:transition advTm="0">
    <p:push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Что влияет на активность кома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ь комаров зависит от метеорологических факторов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рость воздушного течения (при скорости ветра 2 —3 м/сек летать комары уже не могут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нсивность освещения (при солнце комары не летают, искусственные источники света: они не просто привлекают комаров, а удерживают их своим светом в активном состоянии, в ясные ночи, когда приближается полнолуние, комары нападают все время пер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мпература: любят средние показатели температуры +15-25,время перед грозой когда в воздухе так знойно и душ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ь комаров делят на вечерний максимум, ночной минимум, утренний пик, дневным миниму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Как отличить малярийного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комара от немалярийн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ярий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идящего на стене комара брюшко косо приподнято, голова с хоботком, грудь и брюшко — находится на одной прямой линии, образующей с основанием острый угол. Обе стороны угла соединены второй парой ног, и получается в общем намек на букву А. Осторожно, анофеле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инки держатся на поверхности воды в горизонтальном положении,не имеют дыхательной труб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2060640"/>
            <a:ext cx="4038480" cy="3600360"/>
          </a:xfrm>
          <a:prstGeom prst="rect">
            <a:avLst/>
          </a:prstGeom>
          <a:ln w="0">
            <a:noFill/>
          </a:ln>
        </p:spPr>
      </p:pic>
    </p:spTree>
  </p:cSld>
  <p:transition advTm="0">
    <p:wipe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98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отличить малярийного комара от немалярийно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аляри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идящих комаров брюшко приложено к основанию, т. е. все тело параллельно осн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личинок из воды выступает конец дыхательной трубочки, вырастающую наискось на конце брюшка, а их тело образует с поверхностью воды всегда остр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83120" y="1600200"/>
            <a:ext cx="336708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ак лучше защититься от кома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о химических препаратов, отпугивающих насекомых -  репеллентов. Королем репеллентов уже более 50 лет является диэтилтолуамид (ДЭТА, или D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ксикологи считают, что для малышей до 3 - 5 и даже 8 лет использование репеллентных средств недопусти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рекомендуется наносить репеллент на лицо: вместе с потом препарат может попасть в глаза и р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следует наносить репелленты на участки тела, закрытые одеждой - это увеличит количество препарата, поглощаемого кож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ей лучше всего защищать противомоскитными сетками или наносить средство на одежду или препаратами с минимальных содержанием действующего вещества (6 -1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3435120"/>
          </a:xfrm>
          <a:prstGeom prst="rect">
            <a:avLst/>
          </a:prstGeom>
          <a:ln w="0">
            <a:noFill/>
          </a:ln>
        </p:spPr>
      </p:pic>
    </p:spTree>
  </p:cSld>
  <p:transition advTm="0">
    <p:wipe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Как лучше защититься от кома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тивопоказаны репелленты также беременным женщинам и людям с заболеваниями ко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мещении лучшая защита от комаров — мелкие сетки на окнах, вентилятор, установленный у крова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пугивающим средством является электрофумиг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стро действует инсектецидный (уничтожающий) аэрозоль, однако увлекаться не стоит :аэрозоли – самые токсичные из средств. На время обработки помещений изолируйте ваших домашних питомцев, накройте аквариумы с рыбами, а сами обработав помещение, покиньте его на некоторое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Impact"/>
              </a:rPr>
              <a:t>Вопрос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чем комару пить кров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 особенности строения комара дает возможность пить кровь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комариный укус вызывает зуд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м опасен комариный уку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гут ли комары передавать возбудителей болезн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х ли одинаково кусают комары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влияет на активность кома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отличить малярийного комара от немалярийн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Зачем комару пить кров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68144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вь пьют самки комаров (так же могут пить сок раст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цы же питаются цветочным нектаром и соками раст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торые богаты углеводами, необходимые для активн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24360" y="3357720"/>
            <a:ext cx="2649600" cy="2665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25640"/>
          </a:xfrm>
          <a:prstGeom prst="rect">
            <a:avLst/>
          </a:prstGeom>
          <a:ln w="0">
            <a:noFill/>
          </a:ln>
        </p:spPr>
      </p:pic>
    </p:spTree>
  </p:cSld>
  <p:transition advTm="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Зачем комару пить кров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олько что родившиеся самки комара в яичниках начинают развиваться яички. В связи с этим у самок пробуждается и инстинкт, заставляющий их искать хозяина и напиться крови, необходимой для дозревания яичек.(брачный пери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53080" y="1844640"/>
            <a:ext cx="287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Зачем комару пить кров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ившись крови, отяжелевшие самки, усваивают пищу и ждут, когда созреют яички. А потом ищут удобное место для откладки 200 — 300 я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3529080" cy="374508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Какие особенности строения комара дает возможность пить кров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товой орган комара имеет сложное строение. В нем можно различить все основные элементы ротового аппарата насекомых, но все они видоизменены и приспособлены для выполнения главной функции — сосания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укусе нижняя губа отдергивается, и в кожу проникают до этого скрытые парные мандибулы и максиллы, измененные в виде колющих щетинок челюсти, прокалывающие и пропиливающие путь для собственно сосущего элемента хоботка — непарной колющей щетинки (гипофаринкс) с каналом слюнных желез, и верхняя губа с желобком, по которому всасывается кровь. Свободно по бокам хоботка расположены щупальца. (У самцов они такой же длины, как и хоботок, или  чуть больше, причем чаще последний их членик имеет колбовидную форму и густо покрыт волосками., что связано с добычей пищ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287964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комариный укус вызывает зуд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11280" y="981000"/>
            <a:ext cx="4475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юна комаров содержит белки, которые не дают крови свертываться и запускающие аллергически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038480" cy="4032360"/>
          </a:xfrm>
          <a:prstGeom prst="rect">
            <a:avLst/>
          </a:prstGeom>
          <a:ln w="0">
            <a:noFill/>
          </a:ln>
        </p:spPr>
      </p:pic>
    </p:spTree>
  </p:cSld>
  <p:transition advTm="0"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Чем опасен комариный укус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475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ные аллергические реакции вплоть до анафилактического шока по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санные укусы нагна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уют не прихлопывать комаров на себе, а стряхивать или сбивать щелчкам, организме комаров содержатся опасные для человека грибки, они могут попасть в организм человека через кожу, когда мы прихлопываем и размазываем ко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екций многих заразных болезней, вызываемых простейшими, бактериями, вирусами и даже черв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203800" y="1557360"/>
            <a:ext cx="289728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Могут ли комары передавать возбудителей болезн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, могут передав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новую боле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я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хорадку Ден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тую лихор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адно-нильскую лихор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цефа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1844640"/>
            <a:ext cx="2735280" cy="3672000"/>
          </a:xfrm>
          <a:prstGeom prst="rect">
            <a:avLst/>
          </a:prstGeom>
          <a:ln w="0">
            <a:noFill/>
          </a:ln>
        </p:spPr>
      </p:pic>
    </p:spTree>
  </p:cSld>
  <p:transition advTm="0">
    <p:wipe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3:31:49Z</dcterms:created>
  <dc:creator>07110</dc:creator>
  <dc:description/>
  <dc:language>en-US</dc:language>
  <cp:lastModifiedBy>Мася</cp:lastModifiedBy>
  <dcterms:modified xsi:type="dcterms:W3CDTF">2009-11-29T18:04:33Z</dcterms:modified>
  <cp:revision>14</cp:revision>
  <dc:subject/>
  <dc:title>Слайд 1</dc:title>
</cp:coreProperties>
</file>